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35C1BA5-795B-45E6-A248-72A273277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7093C07-67E7-4DCF-8DEC-9C67BC89B7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What does increased carbon dioxide in the blood cau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C42CBDE-65AD-4840-AE65-93EDCD8A05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nasal polyps tre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6446E18-92F6-4211-908A-D5FA58FBCB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would a physician use a sclerosing agent for a noseble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5758C72-66BD-4FD2-A8A9-F72718BB81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ity of pulmonary emboli originate in the veins of the lower extremi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ypes of infection normally cause pneumonia? (Bacterial pneumonia: pneumococci, staphylococci, group A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emolyti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treptococci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lebsiella pneumonia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1 and 2, gram-negative organisms or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egionell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aemophilus influenza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B. Viruses: adenoviruses, influenza viruses, and respiratory synctial viruse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ctor determines the type of antibiotic prescribed for pneumoni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0BF8D3B-8522-4533-9EEE-2F29D781D1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embolisms tre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81D115-E54C-43D4-A1FE-4020912B0D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organism-specific pneumonia tre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970C827-2FC2-4C31-818D-BABD8E7125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ymptoms of pneumoni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28A95EE-FB98-4991-9474-0AE78D3EF7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pulmonary abscesses more commonly found? (in the lower portions of the lungs and in the right lu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causative organism of a pulmonary abscess detect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958FC36-3793-4454-ABBA-BDBBFF18B5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influenza often become an epidemic? (the incubation period is only 1 to 3 days; transmission is by inhalation of the vir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groups are most at risk of complications from influenza? (the very young, the elderly, or the chronically i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issues surrounding inadequate supplies of the 2004 flu vacc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Patient Teaching issues (p. 405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105AE0E-BC03-4222-AD51-943DD9520A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health care workers and parents of children target groups for influenza immuniz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F6A9CD4-970C-4BA2-B251-D3AAEEF808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patients with COPD unable to do, and what are the consequences? (unable to ventilate the lungs freely, which results in an ineffective exchange of respiratory ga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differences between acute and chronic bronchitis. (chronic is similar to acute bronchitis, except that the inflammation persists and becomes wor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bronchitis usually develops as a consequence of which disea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Patient Teaching issues (p. 407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F7894A8-66BC-4E25-80AE-5E201610D2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5234CE5-6662-450F-90BD-CBA85DBBE1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bacteria known to cause pneumonia (as mentioned previously) may be responsible for chronic bronchit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E8143A1-7815-422C-893C-8C35671026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of the possible effects of smoking? (cancer of oral cavity, larynx, esophagus, lung, pancreas, bladder; peptic ulcer; chronic bronchitis emphysema; myocardial infarction; systemic atherosclero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anti-smoking advertising campaigns from various associations and the tobacco compa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D297D12-84EB-4F02-B9A5-635C85AD2B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921F3AE-8A9F-4982-B29F-0134AA7480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n the lungs is bronchiectasis likely to develop? (lower lobes of the lung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circumoral cyano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Patient Teaching issues (pp. 408, 41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33D88F0-F859-4776-B27E-560E913D53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common symptom of pleurisy? (sharp pain, which increases with inspiration and coughing; also, cough, fever, chil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deep-breathing exercises often prescribed for pleurisy patie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BD05C9E-0BC1-4E6C-B260-AACF2AF240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horacostomy proced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emothorax, how does blood enter the pleural cav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differences between pneumothorax and hemothora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4FDBBC5-B91F-4338-A8D4-DF3C1EE5FD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Fowler or semi-Fowler posi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29F7FB6-01E1-43F3-8627-8C387CEEFD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ntoux test? (purified protein derivative, or PPD test: a standard intradermal test used to detect the presence of tuberculin antibod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biggest concern about the recent recurrence of tuberculo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Patient Teaching issues (p. 416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6414ED-5ECC-490C-81AA-40A607D43A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mononucleosis often called the “kissing disease?”(the Epstein-Barr virus is carried in the saliva of previously infected individuals and may be transmitted through the oral pharyngeal route (e.g., during kissing) or through blood transfus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ng complications, how long does recovery from mononucleosis usually take? (3-4 month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Patient Teaching issues (p. 417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16F5794-2177-493D-A376-A7D7B97DC6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teps should a person take when experiencing some of these sympto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C6F0DF2-F60A-4480-B931-8EDED1A62B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arts of the upper respiratory system are affected by a common “head” co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Patient Teaching issues (pp. 383, 385) with stud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2B0B3C5-40DE-41E3-B38B-F1306BD6DC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ides the pharynx, what other components of the upper respiratory system can become inflamed by a case of pharyngit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ypes of infections are the major causes of pharyngitis? (a viral infection is the most common cause; in children, it is often an extension of a bacterial streptococcal infection from the tonsils, adenoids, nose, or sinuse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 sinusotomy. (physician pierces the maxillary sinus, allowing drainage and relief of press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symptom of laryngitis? (inflammation of the larynx, including the vocal cor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8992380-9E84-4495-A323-8BC903E710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inuses normally filled wit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ymptoms of sinusit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warning signs of complications of sinusit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88F5670-79A1-4FCD-BDE1-C45BAD161C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pharyngit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84F321C-AA3D-4F2A-8720-BA8706063D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rhinoplas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ost common causes of nasal polyps? 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serious complication from nasal polyps? (obstruction of the nasal airw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Patient Teaching issues (p. 389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FCC7256-ED83-4568-9C64-CA2F878EDE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other impairment or loss often accompanies anosmi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s epistaxis considered severe and in need of immediate medical attention? (when it persists for 10 minutes or more after constant pressure is appli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Patient Teaching issues (pp. 390-39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0" y="63849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lsevier items and derived items © 2009 by Saunders, an imprint of Elsevier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2460600" y="176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spir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s life by supplying oxygen to organs, tissues and cells and allows removal of carbon diox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rnal respiration - in the lungs, oxygen inhaled from the air is exchanged with carbon dioxide from the bl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l respiration - exchange of gases between the blood and tissue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asal Polyp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sal Poly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benign growths that form as a consequence of distended mucous membranes protruding into nasal ca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production of fluid in the cells of the mucous membran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ten the result of allergic rhin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pistaxis (nosebleed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d hemorrhage - controlled by applying direct, constant pressure on either side of nose for 5 to 10 minu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istent bleeding - treated with local application of epinephrine followed by cauterization or nasal pa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re - surgical ligation of bleeding art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ulmonary Disorders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lmonary embolism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ccurs when a blood clot or other material, such as a foreign body or tumor, lodges in and blocks an artery in the pulmonary circ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neumonia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lammation of the lungs due to inf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ulmonary Embolism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s when embolism is lodged in artery and interrupts blood sup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omplicated embolism - cough, chest pain, low-grade fever and appreh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extensive - dyspnea, tachypnea (at least 20 breaths/minute), chest pain, occasional hemopt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ive embolism - sudden onset of cyanosis, shock and de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neumonia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 of Pneumon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terial infection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neumococ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phylococ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A hemolytic streptococ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emophilus influenzae type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lebsiella pneumoniae types 1 and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ypical pneumon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used by legionella, mycoplasma and chlamydia ag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neumoni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es of Pneumon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novir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luenza vir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cytial vir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also be caused by damage to lungs, such as inhalation of poisonous gas such as chlorine or aspiration of foreign ma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ulmonary Disorder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lmonary absces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a of contained infectious material in the l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a complication of pneumonia caused by 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piration of food, foreign object, bronchial stenosis or neoplas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tic embolism is carried to lung via pulmonary circ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luenza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ly contagious, acute viral disease that occurs in annual outbrea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fluenz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risk of complications of influenz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ons over 50 years of 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dents of nursing ho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s with chronic pulmonary cardiac disorder (including asthm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s with chronic metabolic disease (diabetes), renal dysfunction, hemoglobinopathies, immunosuppr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ldren and teens receiving long-term aspir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care employe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and chronic bronchiti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lammation of the mucous membrane lining the bronch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D includ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onic bronch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nchiect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th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hys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ystic fibr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neumoconi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ronic Obstructive Pulmonary Disease (COPD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440" y="1465200"/>
            <a:ext cx="380052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u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rculatory dis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m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mune dis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lammatory disturb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57320" y="1960200"/>
            <a:ext cx="3800520" cy="33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genital de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al nervous system damage or dis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vironmental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eases of the Respiratory Syste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2093760" y="4067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ute and Chronic Bronchit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symptoms subside within a week, cough may continue for 2-3 wee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al signs within lungs are few or ab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inflammation persists and worsens, often occurs after colds or fl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tructive and asthmatic symptoms app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yspnea, scattered rales and wheez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9" descr="W0256-09-13"/>
          <p:cNvPicPr/>
          <p:nvPr/>
        </p:nvPicPr>
        <p:blipFill>
          <a:blip r:embed="rId1"/>
          <a:stretch/>
        </p:blipFill>
        <p:spPr>
          <a:xfrm>
            <a:off x="2925720" y="1465200"/>
            <a:ext cx="3292560" cy="44546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ronic Obstructive Pulmonary Diseas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'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2384280" y="1741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ffects of Smoking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cer of oral cavity, larynx, esophag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ng can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ptic ul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nic bronchit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hys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ocardial infar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ic atheroscler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cer of panc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cer of blad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lmonary emphysema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hronic obstructive pulmonary disorder characterized by destructive changes in alveolar walls and irreversible enlargement of alveolar air sp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ronic Obstructive Pulmonary Diseas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'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leuris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eurisy (pleuritis)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lammation of membranes surrounding the lungs and lining the pleural ca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p, needle-like pain that increases with inspiration and coug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also experience fever, chills, and shallow brea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neumothorax and Hemothorax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neumothora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ollection of air or gas in the pleural cavity that results in a collapsed or partially collapsed l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mothora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ccumulation of blood and other fluids in the pleural ca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neumothorax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 of Collapsed L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re shortness of bre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dden sharp chest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lling blood pre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id weak pu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llow and weak respi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be cyanotic and anxi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uberculos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lmonary tuberculosi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hronic, acute, or subacute infection of the lungs by Mycobacterium tubercul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quired by inhaling a dried droplet nucleus that contains the tubercle bacil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fectious Mononucleosis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ectious mononucleosi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pstein-Barr virus infection)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cute herpesvirus infection (glandular fev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ymphadenopath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ver that typically peaks in afterno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lessness, malaise, chills, anorex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re throat, fever, headache, fatigue, and cervical generalized lymphadenopat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st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yspnea (difficulty breath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ive or nonproductive cough (acute or chron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moptysis (spitting up bloo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ysphonia (hoarsenes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- or high-grade f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ez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tig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ymptoms of Respiratory Disord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on cold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cute inflammatory process that affects the mucous membrane that lines the upper respiratory tr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usiti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cute or chronic inflammation of the mucous membranes of the paranasal sin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pper Respiratory Tract Infec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aryngiti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cute or chronic infection of the pharyn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ryngiti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lammation of the larynx, including the vocal 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pper Respiratory Tract Infection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'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inusit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s for Sinus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-spectrum antibio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ongest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histam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haryngit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ral infec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often an extension of bacterial streptococcal infection from tonsils, adenoids, nose, or tonsils (particularly in childr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secondary to systemic viral infection such as chickenpox or meas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asal Disorder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iated septum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rooked nasal septum (cartilage partition between the nostri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sal polyp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nign growths that form as consequence of distended mucous membranes protruding into the nasal ca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asal Disorder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'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osmia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mpairment or loss of the sense of sm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pistaxis (nosebleed)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morrhage from the n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0T14:59:33Z</dcterms:created>
  <dc:creator>Elaine Gillingham</dc:creator>
  <dc:description/>
  <dc:language>en-US</dc:language>
  <cp:lastModifiedBy>Student</cp:lastModifiedBy>
  <cp:lastPrinted>2001-09-24T00:45:23Z</cp:lastPrinted>
  <dcterms:modified xsi:type="dcterms:W3CDTF">2011-06-14T20:23:24Z</dcterms:modified>
  <cp:revision>840</cp:revision>
  <dc:subject/>
  <dc:title>Management Techniques for the Health Unit Coordinator</dc:title>
</cp:coreProperties>
</file>